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A05-4AA2-4805-9C8D-040C8F2A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2BA-CF2B-4204-90C6-A4E23F2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508-6D66-4CB6-B80D-C5323A60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412-2CEF-49CF-87D9-C3BF5A1F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FC0-AE81-4B37-BD3A-CCA30BD0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2BD-FC17-4F97-8C44-EAC8B19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A86-7D7B-4201-B749-313B87B6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237-4542-4A74-8407-0DB8A5D1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ADD-A9B7-4553-ACF5-DA94664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15D-C905-4624-9905-4990191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32A-D30C-4549-B188-36F56FF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851-A6D5-4740-AFED-7FD7E6E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279-C935-4BFC-AFE1-81DA3C72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800" y="22860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LIGH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4320" y="1219320"/>
            <a:ext cx="77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h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lification b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ul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7320" y="2314440"/>
            <a:ext cx="82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u"/>
              </a:rPr>
              <a:t>LASER</a:t>
            </a: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 is a device that creates and amplifies a na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intense beam of </a:t>
            </a:r>
            <a:r>
              <a:rPr b="0" lang="de-DE" sz="2400" spc="-1" strike="noStrike">
                <a:solidFill>
                  <a:srgbClr val="ff0000"/>
                </a:solidFill>
                <a:latin typeface="Courier Neu"/>
              </a:rPr>
              <a:t>coherent </a:t>
            </a: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711540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124080"/>
            <a:ext cx="6477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acteristics of Laser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her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fferent parts of the laser beam are related to each other in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ochromat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ser light consists of essentially one wavelength, having its origin in stimulated emission from one set of atomic energy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llim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er beams are very narrow and do not spread very mu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838080"/>
            <a:ext cx="83059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360" y="304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ption an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458120" cy="215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5784840" cy="220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6840" y="34290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mulate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914400"/>
            <a:ext cx="838224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55520"/>
            <a:ext cx="6851880" cy="237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7400" y="3808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429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 of Laser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962520"/>
            <a:ext cx="7239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her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ifferent parts of the laser beam are related to each other in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onochroma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Laser light consists of essentially one wavelength, having its origin in stimulated emission from one set of atomic energ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llim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ser beams are very narrow and do not spread very m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4:29:51Z</dcterms:created>
  <dc:creator>SOCSD</dc:creator>
  <dc:description/>
  <dc:language>en-US</dc:language>
  <cp:lastModifiedBy>SOCSD</cp:lastModifiedBy>
  <dcterms:modified xsi:type="dcterms:W3CDTF">2009-05-08T16:01:41Z</dcterms:modified>
  <cp:revision>2</cp:revision>
  <dc:subject/>
  <dc:title>Slide 1</dc:title>
</cp:coreProperties>
</file>